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83A6-62B2-4CBC-A1A9-FDC1DC5192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 1991 – 1998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к рыночн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Шоковая терап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ризиса в нашем реги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 в кризис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рыбопромышленного  комплек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ранспо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6F7A-2061-4B12-B287-FB3F57F929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15E2-E131-4FED-82E0-3793AEE93A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сти промышленных пред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ое финансирование оборонных заказов практически прекратило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своения гражданской продукции необходимо оборудование и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 РФ не была заинтересована в выдаче кредитов промышленным предприят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кая конкуренция на рынке товаров народного потребления приводила к краху попытки наладить гражданск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5C71-BB16-4866-A5F7-814120815B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бопромышленный комплек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ов рыбы сократился в 4,5 раза по сравнению с 1980-ми го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ти не закупались рыболовные 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лась научно-исследовательская база отра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атизация привела к массовому выводу рыбопромыслового флота под «удобные флаги» или его списанию на металлолом с последующим экспортом заграни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лся набор абитуриентов в учебные заведения рыбохозяйственного профи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FD04-9439-4848-A49B-7826E64669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в развитии сельского 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учебником: с. 215-2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коренные изменения происходили с сельском хозяйстве реги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трудностями сталкивались фермерские хозяй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трудностями сталкивались коллективные хозяй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была государственная политика по отношению к сельскому хозяйств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D321-6888-426E-99B2-4D2FABBDF0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в развитии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роль играет развитие транспорта для нашего региона? Почему вы так дум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транспортное сообщение нашей обла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проблемами сталкивался «внешний»  транспор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проблемами сталкивался «внутренний» транспор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виды транспор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исчез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BB7A-C05F-4751-8548-2C9CBD0826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значение имеет туристическая отрасль для нашего реги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туристические объекты есть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зменения произошли в отечественном туризме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зменился иностранный туризм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65BD-4512-4E58-9F3C-7E68372E41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79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Творческие работы на 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Промышленные предприятия Багратионов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Развитие сельского хозяйства в Багратионовском рай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Туристические объекты наше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История какого-нибудь крупного завода наше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9B30-4D7D-4CD8-9DFD-7B440DC11B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нингра́дский трамва́й — самая западная трамвайная система России, единственная действующая трамвайная система Калининградской области. Является самой старой трамвайной системой на территории современной России (действует с 1895 года). Калининградский трамвай — одна из двух сохранившихся трамвайных систем России с метровой колеёй (другая — в Пятигорск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14A6-C0C2-491B-97E2-F72F9FE548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лининградский янтарный комбинат» основан по решению советского правительства в феврале 1947 года. Предприятие было создано на базе Кенигсбергской янтарной фабрики, входившей во времена Восточной Пруссии в состав Государственной янтарной мануфа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7FA4-28C6-4F9A-A492-18CC456D03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м направлением деятельности ОАО «Кварц» является создание специального вакуумно-технологического оборудования магнетронного, термического, ионно-лучевого, электронно-лучевого напыления; эпитаксиального наращивания слоев, плазмохимического травления и  осаждения д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изводства электронных и микроэлектронных компонентов, а также изделий силовой электрон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несения оптических,  упрочняющих, износостойких, декоративных и других покрытий на  детали машин и оборудования, инструмент, оснастку и товары народного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00C7-9C4D-45BE-80C4-2976DCB063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тип  экономики был в  СССР? Чем он характеризует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олитические события произошли в России в начале 90-х гг.?  Как эти события повлияли на экономику стра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эти события отразились на геополитическом положении нашей обла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3014-1364-4658-8AC4-9DF3789CA0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FCA0-07A7-41A8-AC2F-3B1E9BD6C9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ные модели различаютс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ами проведения рефор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штабом преобраз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нсивностью стабилизационных м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той или иной модели определяется рядом экономических и неэкономических фа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им относятся: воля политического руководства страны, особенности исторического развития, политическое и социальное положение государства и п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ющим фактором служит состояние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олюционный путь постепенного создания рыночных институ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кальные реформы («шоковая терапия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33FA-7F0B-4657-B5B3-F9F5A8D6E7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ков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Шоковая терапия» — экономическая концепция, считающая  инструментом формирования рынка и антиинфляционной политики  включает: одномоментную либерализацию цен, резкое сокращение государственных расходов и достижение бездефицитного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4272-B413-4A8A-A3DC-1E1897BC01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 экономического кризиса 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кризис 1991-1998 гг. в РФ был не циклическим, а трансформационным, связанным с переходом от одной социально-экономической системы к дру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376A-ED37-435E-BEC9-8BE0AC2213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и экономического кризиса в наше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клавное положение усиливало 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региона зависит от внешних связей с Россией и зарубежными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кономике региона преобладали перерабатывающие отрасли промышленности, для которых был характерен бОльший сп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9251-339D-4A0D-85AB-B553F57D13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к у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региональный продукт (ВРП) – обобщающий показатель экономической деятельности региона, характеризующий процесс производства товаров и услуг. Он представляет собой вновь созданную стоимость товаров и услуг, произведенных на территории реги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те диаграмму в учебнике на с.213 Какие выводы можно сдел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78CE-F9BA-452E-BCCC-9589B5AB2B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стоительный завод «Янтарь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нинградский вагоностроительный 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Завод «Кварц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е «Систе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е «Факел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люлозо - бумажный 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Янтарный комбин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94B9-F9AB-4DAE-84D5-E4FB6C8989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5ECC-E4CF-42C3-9795-126F1DCF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40F3-DB1E-4F47-B9A5-9663542C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613-72F1-4A63-A40F-AA0E8A93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FDAA-6702-4412-B84B-FB6AD5AE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72F4-A07E-4104-B642-ED88D1B3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C7E6-E357-406A-AE2C-27992018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1F8B-CAE8-4A28-A595-2FE36DD8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D90E-C018-4364-9F09-3AE61B68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38A6-6C6B-4A7F-ACB7-7528E956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F674-5521-4593-AEC5-863AD706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EFB9-E811-491F-8CF3-E5C4C093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584-F94C-41FD-A573-7DA183E2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FF61-80DD-4F8A-B91B-2C16B4A4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FBA5-0E14-46A1-B380-9E70807C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706D-ECA6-4DB7-A86D-7A28C919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B1C3-7A45-4202-8755-E3BD5E6F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5BE9-3821-4887-9D00-6868555A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BB5A-D1A7-40F8-AA61-3455DFF4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3C9-7BF9-488A-822E-55B902DD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50C-DF18-42CF-8626-8889A72B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525-2BB9-459A-9A11-E14C4CDA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486-96CE-454D-8F32-1BA5A989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A7B8-0141-4470-834F-206C471A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80CB-0F61-41FD-A376-F33A38E4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0B3E-5A19-4C31-B5FB-0FA61F0505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71A3-DBF1-4F86-B353-5E6457A676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72,15,&#1057;&#1083;&#1072;&#1081;&#1076; 1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65,13,&#1055;&#1088;&#1077;&#1076;&#1087;&#1088;&#1080;&#1103;&#1090;&#1080;&#1103; &#1088;&#1077;&#1075;&#1080;&#1086;&#1085;&#1072;" TargetMode="External"/><Relationship Id="rId2" Type="http://schemas.openxmlformats.org/officeDocument/2006/relationships/hyperlink" Target="264,12,&#1055;&#1088;&#1077;&#1076;&#1087;&#1088;&#1080;&#1103;&#1090;&#1080;&#1103; &#1088;&#1077;&#1075;&#1080;&#1086;&#1085;&#1072;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Экономический кризис 1991 – 1998 гг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4000" y="2924280"/>
            <a:ext cx="784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н уро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дели перехода к рыночной экономик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Шоковая терап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обенности кризиса в нашем регио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промышленности в кризисный пери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сельского хозяйства и рыбопромышленного  комплек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транспорт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тури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781280" y="476280"/>
            <a:ext cx="55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стория западной Росс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4140360" y="2492280"/>
            <a:ext cx="2604960" cy="2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вод "Кварц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539640" y="1773360"/>
            <a:ext cx="2189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-15 тыс. 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ников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7"/>
          <p:cNvSpPr txBox="1"/>
          <p:nvPr/>
        </p:nvSpPr>
        <p:spPr>
          <a:xfrm>
            <a:off x="3708360" y="1413000"/>
            <a:ext cx="347184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достроительны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вод "Янтарь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153" name="AutoShape 8"/>
          <p:cNvCxnSpPr>
            <a:stCxn id="151" idx="3"/>
            <a:endCxn id="152" idx="0"/>
          </p:cNvCxnSpPr>
          <p:nvPr/>
        </p:nvCxnSpPr>
        <p:spPr>
          <a:xfrm flipV="1">
            <a:off x="1644120" y="1402560"/>
            <a:ext cx="3801240" cy="731160"/>
          </a:xfrm>
          <a:prstGeom prst="bentConnector4">
            <a:avLst>
              <a:gd name="adj1" fmla="val 41390"/>
              <a:gd name="adj2" fmla="val 13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9"/>
          <p:cNvCxnSpPr>
            <a:stCxn id="151" idx="1"/>
            <a:endCxn id="150" idx="2"/>
          </p:cNvCxnSpPr>
          <p:nvPr/>
        </p:nvCxnSpPr>
        <p:spPr>
          <a:xfrm>
            <a:off x="1624680" y="2132640"/>
            <a:ext cx="3818520" cy="641880"/>
          </a:xfrm>
          <a:prstGeom prst="bentConnector4">
            <a:avLst>
              <a:gd name="adj1" fmla="val 41363"/>
              <a:gd name="adj2" fmla="val 1341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WordArt 10"/>
          <p:cNvSpPr txBox="1"/>
          <p:nvPr/>
        </p:nvSpPr>
        <p:spPr>
          <a:xfrm>
            <a:off x="539640" y="4159080"/>
            <a:ext cx="2189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- 5 тыс.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ников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1"/>
          <p:cNvSpPr txBox="1"/>
          <p:nvPr/>
        </p:nvSpPr>
        <p:spPr>
          <a:xfrm>
            <a:off x="3708360" y="4014720"/>
            <a:ext cx="44769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е "Систем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2"/>
          <p:cNvSpPr txBox="1"/>
          <p:nvPr/>
        </p:nvSpPr>
        <p:spPr>
          <a:xfrm>
            <a:off x="3780000" y="4797360"/>
            <a:ext cx="41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е "Факел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158" name="AutoShape 13"/>
          <p:cNvCxnSpPr>
            <a:stCxn id="155" idx="1"/>
            <a:endCxn id="156" idx="0"/>
          </p:cNvCxnSpPr>
          <p:nvPr/>
        </p:nvCxnSpPr>
        <p:spPr>
          <a:xfrm flipV="1">
            <a:off x="1624680" y="4005360"/>
            <a:ext cx="4321800" cy="514440"/>
          </a:xfrm>
          <a:prstGeom prst="bentConnector4">
            <a:avLst>
              <a:gd name="adj1" fmla="val 37020"/>
              <a:gd name="adj2" fmla="val 1426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AutoShape 15"/>
          <p:cNvCxnSpPr>
            <a:stCxn id="155" idx="3"/>
            <a:endCxn id="157" idx="2"/>
          </p:cNvCxnSpPr>
          <p:nvPr/>
        </p:nvCxnSpPr>
        <p:spPr>
          <a:xfrm>
            <a:off x="1644120" y="4519440"/>
            <a:ext cx="4188600" cy="648360"/>
          </a:xfrm>
          <a:prstGeom prst="bentConnector4">
            <a:avLst>
              <a:gd name="adj1" fmla="val 38396"/>
              <a:gd name="adj2" fmla="val 133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WordArt 16"/>
          <p:cNvSpPr txBox="1"/>
          <p:nvPr/>
        </p:nvSpPr>
        <p:spPr>
          <a:xfrm>
            <a:off x="1116000" y="5516640"/>
            <a:ext cx="65055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пуском какой продукц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нимались эти предприятия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промышленных предприят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8598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сударственное финансирование оборонных заказов практически прекратилос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освоения гражданской продукции необходимо оборудование и инвест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нковская система РФ не была заинтересована в выдаче кредитов промышленным предприятия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есткая конкуренция на рынке товаров народного потребления приводила к краху попытки наладить гражданское производ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1042920" y="4869000"/>
            <a:ext cx="7410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читайте  учебник на с.214-215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611280" y="5661000"/>
            <a:ext cx="78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предприятия регион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арались выйти из кризиса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ыбопромышленный комплек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лов рыбы сократился в 4,5 раза по сравнению с 1980-ми год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чти не закупались рыболовные су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ушалась научно-исследовательская база отрас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ватизация привела к массовому выводу рыбопромыслового флота под «удобные флаги» или его списанию на металлолом с последующим экспортом заграниц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кратился набор абитуриентов в учебные заведения рыбохозяйственного профи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133200" y="5810400"/>
            <a:ext cx="9010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ие меры, на ваш взгляд, могли спаст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бопромышленный комплекс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в развитии сельского хозяйств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бота с учебником: с. 215-2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е коренные изменения происходили с сельском хозяйстве регион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трудностями сталкивались фермерские хозяйств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трудностями сталкивались коллективные хозяйств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ова была государственная политика по отношению к сельскому хозяйств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в развитии транспор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ую роль играет развитие транспорта для нашего региона? Почему вы так думает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какие группы можно разделить транспортное сообщение нашей област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проблемами сталкивался «внешний»  транспор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проблемами сталкивался «внутренний» транспор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е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виды транспорт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актически исчезл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Развитие туриз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е значение имеет туристическая отрасль для нашего регион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туристические объекты есть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изменения произошли в отечественном туризме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изменился иностранный туризм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79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ворческие работы на тем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ромышленные предприятия Багратионовс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Развитие сельского хозяйства в Багратионовском райо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Туристические объекты нашего реги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История какого-нибудь крупного завода нашего реги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51280" y="1599840"/>
            <a:ext cx="4897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линингра́дский трамва́й — самая западная трамвайная система России, единственная действующая трамвайная система Калининградской области. Является самой старой трамвайной системой на территории современной России (действует с 1895 года). Калининградский трамвай — одна из двух сохранившихся трамвайных систем России с метровой колеёй (другая — в Пятигорске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995640" y="233280"/>
            <a:ext cx="5148360" cy="662472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оследние годы администрация Калининграда проводит политику ликвидации трамвайных маршрутов в связи с тем, что лоббируются интересы маршрутных такси и депутатов-владельцев автобусных фирм, а ликвидированные линии в перспективе планируется заменить троллейбусами. Но на практике была замена лишь на улице Горького. Во всех остальных случаях (улица Суворова, Невского, Киевская, Гагарина, Маршала Борзова и др.) планы замены так и остались только план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2381400" cy="3238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2"/>
          <a:stretch/>
        </p:blipFill>
        <p:spPr>
          <a:xfrm>
            <a:off x="611280" y="471492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8">
            <a:hlinkClick r:id="" action="ppaction://hlinkshowjump?jump=previousslide"/>
          </p:cNvPr>
          <p:cNvSpPr/>
          <p:nvPr/>
        </p:nvSpPr>
        <p:spPr>
          <a:xfrm>
            <a:off x="0" y="0"/>
            <a:ext cx="720720" cy="692280"/>
          </a:xfrm>
          <a:custGeom>
            <a:avLst/>
            <a:gdLst>
              <a:gd name="textAreaLeft" fmla="*/ 44640 w 720720"/>
              <a:gd name="textAreaRight" fmla="*/ 676080 w 720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87" h="21600">
                <a:moveTo>
                  <a:pt x="0" y="0"/>
                </a:moveTo>
                <a:lnTo>
                  <a:pt x="22487" y="0"/>
                </a:lnTo>
                <a:lnTo>
                  <a:pt x="22487" y="21600"/>
                </a:lnTo>
                <a:lnTo>
                  <a:pt x="0" y="21600"/>
                </a:lnTo>
                <a:close/>
              </a:path>
              <a:path fill="lightenLess" w="22487" h="21600">
                <a:moveTo>
                  <a:pt x="0" y="0"/>
                </a:moveTo>
                <a:lnTo>
                  <a:pt x="22487" y="0"/>
                </a:lnTo>
                <a:lnTo>
                  <a:pt x="21087" y="1400"/>
                </a:lnTo>
                <a:lnTo>
                  <a:pt x="1400" y="1400"/>
                </a:lnTo>
                <a:close/>
              </a:path>
              <a:path fill="darken" w="22487" h="21600">
                <a:moveTo>
                  <a:pt x="22487" y="0"/>
                </a:moveTo>
                <a:lnTo>
                  <a:pt x="22487" y="21600"/>
                </a:lnTo>
                <a:lnTo>
                  <a:pt x="21087" y="20200"/>
                </a:lnTo>
                <a:lnTo>
                  <a:pt x="21087" y="1400"/>
                </a:lnTo>
                <a:close/>
              </a:path>
              <a:path fill="darkenLess" w="22487" h="21600">
                <a:moveTo>
                  <a:pt x="22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7" y="20200"/>
                </a:lnTo>
                <a:close/>
              </a:path>
              <a:path fill="lighten" w="22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87" h="21600">
                <a:moveTo>
                  <a:pt x="4237" y="7493"/>
                </a:moveTo>
                <a:lnTo>
                  <a:pt x="7745" y="7493"/>
                </a:lnTo>
                <a:lnTo>
                  <a:pt x="7745" y="12828"/>
                </a:lnTo>
                <a:cubicBezTo>
                  <a:pt x="7745" y="13751"/>
                  <a:pt x="8545" y="14482"/>
                  <a:pt x="9581" y="14482"/>
                </a:cubicBezTo>
                <a:lnTo>
                  <a:pt x="11243" y="14482"/>
                </a:lnTo>
                <a:cubicBezTo>
                  <a:pt x="12279" y="14482"/>
                  <a:pt x="13080" y="13751"/>
                  <a:pt x="13080" y="12828"/>
                </a:cubicBezTo>
                <a:lnTo>
                  <a:pt x="13080" y="7493"/>
                </a:lnTo>
                <a:lnTo>
                  <a:pt x="11243" y="7493"/>
                </a:lnTo>
                <a:lnTo>
                  <a:pt x="14751" y="3985"/>
                </a:lnTo>
                <a:lnTo>
                  <a:pt x="18424" y="7493"/>
                </a:lnTo>
                <a:lnTo>
                  <a:pt x="16588" y="7493"/>
                </a:lnTo>
                <a:lnTo>
                  <a:pt x="16588" y="12828"/>
                </a:lnTo>
                <a:cubicBezTo>
                  <a:pt x="16588" y="15596"/>
                  <a:pt x="14011" y="18155"/>
                  <a:pt x="11243" y="18155"/>
                </a:cubicBezTo>
                <a:lnTo>
                  <a:pt x="9581" y="18155"/>
                </a:lnTo>
                <a:cubicBezTo>
                  <a:pt x="6813" y="18155"/>
                  <a:pt x="4237" y="15596"/>
                  <a:pt x="423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51640" y="1600200"/>
            <a:ext cx="3241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Калининградский янтарный комбинат» основан по решению советского правительства в феврале 1947 года. Предприятие было создано на базе Кенигсбергской янтарной фабрики, входившей во времена Восточной Пруссии в состав Государственной янтарной мануфактур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771640" cy="1842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3059280" y="2060640"/>
            <a:ext cx="2538360" cy="381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2655720" cy="176544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8">
            <a:hlinkClick r:id="" action="ppaction://hlinkshowjump?jump=previousslide"/>
          </p:cNvPr>
          <p:cNvSpPr/>
          <p:nvPr/>
        </p:nvSpPr>
        <p:spPr>
          <a:xfrm>
            <a:off x="817236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09" h="21600">
                <a:moveTo>
                  <a:pt x="9898" y="7493"/>
                </a:moveTo>
                <a:lnTo>
                  <a:pt x="13405" y="7493"/>
                </a:lnTo>
                <a:lnTo>
                  <a:pt x="13405" y="12828"/>
                </a:lnTo>
                <a:cubicBezTo>
                  <a:pt x="13405" y="13751"/>
                  <a:pt x="14206" y="14482"/>
                  <a:pt x="15242" y="14482"/>
                </a:cubicBezTo>
                <a:lnTo>
                  <a:pt x="16904" y="14482"/>
                </a:lnTo>
                <a:cubicBezTo>
                  <a:pt x="17940" y="14482"/>
                  <a:pt x="18741" y="13751"/>
                  <a:pt x="18741" y="12828"/>
                </a:cubicBezTo>
                <a:lnTo>
                  <a:pt x="18741" y="7493"/>
                </a:lnTo>
                <a:lnTo>
                  <a:pt x="16904" y="7493"/>
                </a:lnTo>
                <a:lnTo>
                  <a:pt x="20412" y="3985"/>
                </a:lnTo>
                <a:lnTo>
                  <a:pt x="24085" y="7493"/>
                </a:lnTo>
                <a:lnTo>
                  <a:pt x="22248" y="7493"/>
                </a:lnTo>
                <a:lnTo>
                  <a:pt x="22248" y="12828"/>
                </a:lnTo>
                <a:cubicBezTo>
                  <a:pt x="22248" y="15596"/>
                  <a:pt x="19672" y="18155"/>
                  <a:pt x="16904" y="18155"/>
                </a:cubicBezTo>
                <a:lnTo>
                  <a:pt x="15242" y="18155"/>
                </a:lnTo>
                <a:cubicBezTo>
                  <a:pt x="12474" y="18155"/>
                  <a:pt x="9898" y="15596"/>
                  <a:pt x="9898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50767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едущим направлением деятельности ОАО «Кварц» является создание специального вакуумно-технологического оборудования магнетронного, термического, ионно-лучевого, электронно-лучевого напыления; эпитаксиального наращивания слоев, плазмохимического травления и  осаждения дл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производства электронных и микроэлектронных компонентов, а также изделий силовой электроник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нанесения оптических,  упрочняющих, износостойких, декоративных и других покрытий на  детали машин и оборудования, инструмент, оснастку и товары народного потребл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384720" cy="2327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3313080" cy="215244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6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7493"/>
                </a:moveTo>
                <a:lnTo>
                  <a:pt x="8409" y="7493"/>
                </a:lnTo>
                <a:lnTo>
                  <a:pt x="8409" y="12828"/>
                </a:lnTo>
                <a:cubicBezTo>
                  <a:pt x="8409" y="13751"/>
                  <a:pt x="9210" y="14482"/>
                  <a:pt x="10246" y="14482"/>
                </a:cubicBezTo>
                <a:lnTo>
                  <a:pt x="11908" y="14482"/>
                </a:lnTo>
                <a:cubicBezTo>
                  <a:pt x="12944" y="14482"/>
                  <a:pt x="13745" y="13751"/>
                  <a:pt x="13745" y="12828"/>
                </a:cubicBezTo>
                <a:lnTo>
                  <a:pt x="13745" y="7493"/>
                </a:lnTo>
                <a:lnTo>
                  <a:pt x="11908" y="7493"/>
                </a:lnTo>
                <a:lnTo>
                  <a:pt x="15416" y="3985"/>
                </a:lnTo>
                <a:lnTo>
                  <a:pt x="19089" y="7493"/>
                </a:lnTo>
                <a:lnTo>
                  <a:pt x="17252" y="7493"/>
                </a:lnTo>
                <a:lnTo>
                  <a:pt x="17252" y="12828"/>
                </a:lnTo>
                <a:cubicBezTo>
                  <a:pt x="17252" y="15596"/>
                  <a:pt x="14676" y="18155"/>
                  <a:pt x="11908" y="18155"/>
                </a:cubicBezTo>
                <a:lnTo>
                  <a:pt x="10246" y="18155"/>
                </a:lnTo>
                <a:cubicBezTo>
                  <a:pt x="7478" y="18155"/>
                  <a:pt x="4902" y="15596"/>
                  <a:pt x="4902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вторим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й тип  экономики был в  СССР? Чем он характеризуетс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политические события произошли в России в начале 90-х гг.?  Как эти события повлияли на экономику стран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эти события отразились на геополитическом положении нашей област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Модели переход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684360" y="3068640"/>
            <a:ext cx="2087280" cy="1800360"/>
            <a:chOff x="684360" y="3068640"/>
            <a:chExt cx="2087280" cy="1800360"/>
          </a:xfrm>
        </p:grpSpPr>
        <p:grpSp>
          <p:nvGrpSpPr>
            <p:cNvPr id="105" name="Group 4"/>
            <p:cNvGrpSpPr/>
            <p:nvPr/>
          </p:nvGrpSpPr>
          <p:grpSpPr>
            <a:xfrm>
              <a:off x="1044360" y="3429000"/>
              <a:ext cx="1191960" cy="1166400"/>
              <a:chOff x="1044360" y="3429000"/>
              <a:chExt cx="1191960" cy="1166400"/>
            </a:xfrm>
          </p:grpSpPr>
          <p:sp>
            <p:nvSpPr>
              <p:cNvPr id="106" name="Gear"/>
              <p:cNvSpPr/>
              <p:nvPr/>
            </p:nvSpPr>
            <p:spPr>
              <a:xfrm>
                <a:off x="1705320" y="3429000"/>
                <a:ext cx="531000" cy="534960"/>
              </a:xfrm>
              <a:custGeom>
                <a:avLst/>
                <a:gdLst>
                  <a:gd name="textAreaLeft" fmla="*/ 107280 w 531000"/>
                  <a:gd name="textAreaRight" fmla="*/ 438840 w 531000"/>
                  <a:gd name="textAreaTop" fmla="*/ 97920 h 534960"/>
                  <a:gd name="textAreaBottom" fmla="*/ 437040 h 534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AutoShape 6"/>
              <p:cNvSpPr/>
              <p:nvPr/>
            </p:nvSpPr>
            <p:spPr>
              <a:xfrm>
                <a:off x="1044360" y="3649320"/>
                <a:ext cx="635040" cy="639360"/>
              </a:xfrm>
              <a:custGeom>
                <a:avLst/>
                <a:gdLst>
                  <a:gd name="textAreaLeft" fmla="*/ 128160 w 635040"/>
                  <a:gd name="textAreaRight" fmla="*/ 524520 w 635040"/>
                  <a:gd name="textAreaTop" fmla="*/ 117360 h 639360"/>
                  <a:gd name="textAreaBottom" fmla="*/ 522000 h 63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AutoShape 7"/>
              <p:cNvSpPr/>
              <p:nvPr/>
            </p:nvSpPr>
            <p:spPr>
              <a:xfrm>
                <a:off x="1456200" y="3885120"/>
                <a:ext cx="705600" cy="710280"/>
              </a:xfrm>
              <a:custGeom>
                <a:avLst/>
                <a:gdLst>
                  <a:gd name="textAreaLeft" fmla="*/ 142920 w 705600"/>
                  <a:gd name="textAreaRight" fmla="*/ 583200 w 705600"/>
                  <a:gd name="textAreaTop" fmla="*/ 129960 h 710280"/>
                  <a:gd name="textAreaBottom" fmla="*/ 579960 h 71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9" name="WordArt 8"/>
            <p:cNvSpPr txBox="1"/>
            <p:nvPr/>
          </p:nvSpPr>
          <p:spPr>
            <a:xfrm>
              <a:off x="684360" y="3068640"/>
              <a:ext cx="2087280" cy="1800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Эконоомика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0" name="Group 10"/>
          <p:cNvGrpSpPr/>
          <p:nvPr/>
        </p:nvGrpSpPr>
        <p:grpSpPr>
          <a:xfrm>
            <a:off x="6300720" y="2924280"/>
            <a:ext cx="2087640" cy="1800000"/>
            <a:chOff x="6300720" y="2924280"/>
            <a:chExt cx="2087640" cy="1800000"/>
          </a:xfrm>
        </p:grpSpPr>
        <p:grpSp>
          <p:nvGrpSpPr>
            <p:cNvPr id="111" name="Group 11"/>
            <p:cNvGrpSpPr/>
            <p:nvPr/>
          </p:nvGrpSpPr>
          <p:grpSpPr>
            <a:xfrm>
              <a:off x="6661080" y="3284280"/>
              <a:ext cx="1192320" cy="1166400"/>
              <a:chOff x="6661080" y="3284280"/>
              <a:chExt cx="1192320" cy="1166400"/>
            </a:xfrm>
          </p:grpSpPr>
          <p:sp>
            <p:nvSpPr>
              <p:cNvPr id="112" name="Gear"/>
              <p:cNvSpPr/>
              <p:nvPr/>
            </p:nvSpPr>
            <p:spPr>
              <a:xfrm>
                <a:off x="7322040" y="3284280"/>
                <a:ext cx="531360" cy="534600"/>
              </a:xfrm>
              <a:custGeom>
                <a:avLst/>
                <a:gdLst>
                  <a:gd name="textAreaLeft" fmla="*/ 107640 w 531360"/>
                  <a:gd name="textAreaRight" fmla="*/ 438840 w 531360"/>
                  <a:gd name="textAreaTop" fmla="*/ 97920 h 534600"/>
                  <a:gd name="textAreaBottom" fmla="*/ 436680 h 53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AutoShape 13"/>
              <p:cNvSpPr/>
              <p:nvPr/>
            </p:nvSpPr>
            <p:spPr>
              <a:xfrm>
                <a:off x="6661080" y="3504600"/>
                <a:ext cx="635040" cy="639360"/>
              </a:xfrm>
              <a:custGeom>
                <a:avLst/>
                <a:gdLst>
                  <a:gd name="textAreaLeft" fmla="*/ 128160 w 635040"/>
                  <a:gd name="textAreaRight" fmla="*/ 524520 w 635040"/>
                  <a:gd name="textAreaTop" fmla="*/ 117360 h 639360"/>
                  <a:gd name="textAreaBottom" fmla="*/ 522000 h 63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AutoShape 14"/>
              <p:cNvSpPr/>
              <p:nvPr/>
            </p:nvSpPr>
            <p:spPr>
              <a:xfrm>
                <a:off x="7072920" y="3740400"/>
                <a:ext cx="705960" cy="710280"/>
              </a:xfrm>
              <a:custGeom>
                <a:avLst/>
                <a:gdLst>
                  <a:gd name="textAreaLeft" fmla="*/ 142920 w 705960"/>
                  <a:gd name="textAreaRight" fmla="*/ 583560 w 705960"/>
                  <a:gd name="textAreaTop" fmla="*/ 129960 h 710280"/>
                  <a:gd name="textAreaBottom" fmla="*/ 579960 h 71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5" name="WordArt 15"/>
            <p:cNvSpPr txBox="1"/>
            <p:nvPr/>
          </p:nvSpPr>
          <p:spPr>
            <a:xfrm>
              <a:off x="6300720" y="2924280"/>
              <a:ext cx="2087640" cy="1800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Эконоомика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16" name="AutoShape 16"/>
          <p:cNvSpPr/>
          <p:nvPr/>
        </p:nvSpPr>
        <p:spPr>
          <a:xfrm>
            <a:off x="3203640" y="3645000"/>
            <a:ext cx="2879640" cy="1079280"/>
          </a:xfrm>
          <a:custGeom>
            <a:avLst/>
            <a:gdLst>
              <a:gd name="textAreaLeft" fmla="*/ 450000 w 2879640"/>
              <a:gd name="textAreaRight" fmla="*/ 2684880 w 2879640"/>
              <a:gd name="textAreaTop" fmla="*/ 399960 h 1079280"/>
              <a:gd name="textAreaBottom" fmla="*/ 679320 h 1079280"/>
            </a:gdLst>
            <a:ahLst/>
            <a:rect l="textAreaLeft" t="textAreaTop" r="textAreaRight" b="textAreaBottom"/>
            <a:pathLst>
              <a:path w="21600" h="21600">
                <a:moveTo>
                  <a:pt x="15949" y="0"/>
                </a:moveTo>
                <a:lnTo>
                  <a:pt x="15949" y="8008"/>
                </a:lnTo>
                <a:lnTo>
                  <a:pt x="3375" y="8008"/>
                </a:lnTo>
                <a:lnTo>
                  <a:pt x="3375" y="13592"/>
                </a:lnTo>
                <a:lnTo>
                  <a:pt x="15949" y="13592"/>
                </a:lnTo>
                <a:lnTo>
                  <a:pt x="15949" y="21600"/>
                </a:lnTo>
                <a:lnTo>
                  <a:pt x="21600" y="10800"/>
                </a:lnTo>
                <a:lnTo>
                  <a:pt x="15949" y="0"/>
                </a:lnTo>
                <a:close/>
              </a:path>
              <a:path w="21600" h="21600">
                <a:moveTo>
                  <a:pt x="1350" y="8008"/>
                </a:moveTo>
                <a:lnTo>
                  <a:pt x="1350" y="13592"/>
                </a:lnTo>
                <a:lnTo>
                  <a:pt x="2700" y="13592"/>
                </a:lnTo>
                <a:lnTo>
                  <a:pt x="2700" y="8008"/>
                </a:lnTo>
                <a:lnTo>
                  <a:pt x="1350" y="8008"/>
                </a:lnTo>
                <a:close/>
              </a:path>
              <a:path w="21600" h="21600">
                <a:moveTo>
                  <a:pt x="0" y="8008"/>
                </a:moveTo>
                <a:lnTo>
                  <a:pt x="0" y="13592"/>
                </a:lnTo>
                <a:lnTo>
                  <a:pt x="675" y="13592"/>
                </a:lnTo>
                <a:lnTo>
                  <a:pt x="675" y="8008"/>
                </a:lnTo>
                <a:lnTo>
                  <a:pt x="0" y="8008"/>
                </a:lnTo>
                <a:close/>
              </a:path>
            </a:pathLst>
          </a:custGeom>
          <a:solidFill>
            <a:srgbClr val="e7e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1116000" y="1773360"/>
            <a:ext cx="7777080" cy="936360"/>
          </a:xfrm>
          <a:custGeom>
            <a:avLst/>
            <a:gdLst>
              <a:gd name="textAreaLeft" fmla="*/ 1470240 w 7777080"/>
              <a:gd name="textAreaRight" fmla="*/ 5529240 w 7777080"/>
              <a:gd name="textAreaTop" fmla="*/ 125280 h 936360"/>
              <a:gd name="textAreaBottom" fmla="*/ 811080 h 93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68" hR="21600" stAng="10800000" swAng="5400000"/>
                <a:lnTo>
                  <a:pt x="11273" y="0"/>
                </a:lnTo>
                <a:arcTo wR="8168" hR="21600" stAng="-5400000" swAng="2815405"/>
                <a:lnTo>
                  <a:pt x="21133" y="14400"/>
                </a:lnTo>
                <a:lnTo>
                  <a:pt x="17888" y="21600"/>
                </a:lnTo>
                <a:lnTo>
                  <a:pt x="13708" y="14400"/>
                </a:lnTo>
                <a:lnTo>
                  <a:pt x="15868" y="14400"/>
                </a:lnTo>
                <a:arcTo wR="8168" hR="21600" stAng="-2584595" swAng="-2564176"/>
                <a:lnTo>
                  <a:pt x="9720" y="394"/>
                </a:lnTo>
                <a:arcTo wR="8168" hR="21600" stAng="-5651228" swAng="-5148772"/>
                <a:close/>
              </a:path>
              <a:path fill="darkenLess" w="21600" h="21600">
                <a:moveTo>
                  <a:pt x="0" y="21600"/>
                </a:moveTo>
                <a:arcTo wR="8168" hR="21600" stAng="10800000" swAng="5400000"/>
                <a:lnTo>
                  <a:pt x="8168" y="0"/>
                </a:lnTo>
                <a:arcTo wR="8168" hR="21600" stAng="-5400000" swAng="251228"/>
                <a:lnTo>
                  <a:pt x="9720" y="394"/>
                </a:lnTo>
                <a:arcTo wR="8168" hR="21600" stAng="-5651228" swAng="-5148772"/>
                <a:close/>
              </a:path>
            </a:pathLst>
          </a:custGeom>
          <a:solidFill>
            <a:srgbClr val="e7e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WordArt 21"/>
          <p:cNvSpPr txBox="1"/>
          <p:nvPr/>
        </p:nvSpPr>
        <p:spPr>
          <a:xfrm>
            <a:off x="0" y="4869000"/>
            <a:ext cx="4038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андно -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дминистратив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22"/>
          <p:cNvSpPr txBox="1"/>
          <p:nvPr/>
        </p:nvSpPr>
        <p:spPr>
          <a:xfrm>
            <a:off x="6443640" y="4869000"/>
            <a:ext cx="21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ч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Місце для нижнього колонтитула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4149360"/>
            <a:ext cx="79912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званные модели различаются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оками проведения реформ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сштабом преобразова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тенсивностью стабилизационных ме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ор той или иной модели определяется рядом экономических и неэкономических факто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560" y="4221000"/>
            <a:ext cx="8569080" cy="237672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ним относятся: воля политического руководства страны, особенности исторического развития, политическое и социальное положение государства и пр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яющим фактором служит состояние экономи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360072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онный путь постепенного создания рыночных институ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19280" y="1988640"/>
            <a:ext cx="3529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дикальные реформы («шоковая терапия»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Модели переход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50920" y="1197000"/>
            <a:ext cx="4178160" cy="540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Шоковая терап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00720" y="1267920"/>
            <a:ext cx="4643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Шоковая терапия» — экономическая концепция, считающая  инструментом формирования рынка и антиинфляционной политики  включает: одномоментную либерализацию цен, резкое сокращение государственных расходов и достижение бездефицитного бюджет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466560" y="4005360"/>
            <a:ext cx="3745080" cy="2492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1682640" cy="242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2124000" y="1484280"/>
            <a:ext cx="2239920" cy="24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7"/>
          <p:cNvSpPr/>
          <p:nvPr/>
        </p:nvSpPr>
        <p:spPr>
          <a:xfrm>
            <a:off x="4572000" y="1047600"/>
            <a:ext cx="4572000" cy="650376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ор радикальной модели реформ обусловлен, как правило, крайне тяжелым состоянием экономик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значительный удельный вес тяжелой «промышленности и военного производств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острый товарный дефицит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критическое финансовое положение. государст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Характер экономического кризиса в РФ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йский кризис 1991-1998 гг. в РФ был не циклическим, а трансформационным, связанным с переходом от одной социально-экономической системы к друг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54"/>
          <p:cNvPicPr/>
          <p:nvPr/>
        </p:nvPicPr>
        <p:blipFill>
          <a:blip r:embed="rId1"/>
          <a:srcRect l="35658" t="10906" r="35546" b="47050"/>
          <a:stretch/>
        </p:blipFill>
        <p:spPr>
          <a:xfrm>
            <a:off x="6227640" y="1052640"/>
            <a:ext cx="2578320" cy="544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Особенности экономического кризиса в нашей обла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склавное положение усиливало экономический криз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региона зависит от внешних связей с Россией и зарубежными стран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экономике региона преобладали перерабатывающие отрасли промышленности, для которых был характерен бОльший спа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ловарь к урок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ловый региональный продукт (ВРП) – обобщающий показатель экономической деятельности региона, характеризующий процесс производства товаров и услуг. Он представляет собой вновь созданную стоимость товаров и услуг, произведенных на территории регио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мотрите диаграмму в учебнике на с.213 Какие выводы можно сдел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достоительный завод «Янтарь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лининградский вагоностроительный зав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Завод «Кварц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риятие «Систем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риятие «Факел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еллюлозо - бумажный зав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Янтарный комбин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6012000" y="342900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1:40:49Z</dcterms:created>
  <dc:creator>Света</dc:creator>
  <dc:description/>
  <dc:language>en-US</dc:language>
  <cp:lastModifiedBy>LEGION</cp:lastModifiedBy>
  <dcterms:modified xsi:type="dcterms:W3CDTF">2014-11-07T13:33:32Z</dcterms:modified>
  <cp:revision>5</cp:revision>
  <dc:subject/>
  <dc:title>Экономический кризис 1991 – 1998 гг.</dc:title>
</cp:coreProperties>
</file>